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492-ED7D-4F05-A771-1FBF4663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ACC-039E-4C30-8D38-1A3CD030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D93-46F5-46EF-B012-64403644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C92-477A-4814-A7EF-355A7D6B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E3A-5007-43EA-80AA-61765CD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F95-C185-42E3-B2E6-0E6A99E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02B-9DCA-4BFE-8677-033BDB96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253-1F02-4592-AD74-3FFDD12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E20-2F6D-4D1E-8F58-F4509C5F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6855-7342-48BB-BBDE-2702A11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BD3-EDBC-4A1E-9706-5A3B15B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592-0B1B-49AE-9B4D-C05346F0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190-7302-4436-A5D5-9A4D2B93A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弘扬正义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反对霸权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铭记历史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振兴中华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26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558972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历史照片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945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日上午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时，在南京陆军总部举行中国战区日本投降签字仪式</a:t>
            </a:r>
            <a:r>
              <a:rPr b="1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371628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　</a:t>
            </a:r>
            <a:r>
              <a:rPr b="0" lang="zh-CN" sz="6000" spc="-1" strike="noStrike">
                <a:solidFill>
                  <a:srgbClr val="cc3300"/>
                </a:solidFill>
                <a:latin typeface="Arial"/>
                <a:ea typeface="黑体"/>
              </a:rPr>
              <a:t>日本侵略者在中国犯下的滔天罪行，罄竹难书，请看图片</a:t>
            </a: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523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165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日本侵略军大批屠杀的中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92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623736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隶书"/>
              </a:rPr>
              <a:t>左腿肉全被日本军割光的中国士兵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11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093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日本军士兵正在挖出一个中国人的心脏供下酒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89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61657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成千上万的中国平民百姓惨遭日寇屠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6237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被日本兽军砍下的无辜中国人的头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561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021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被日本野兽蹂躏砍杀的中国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518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5516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巨幅油画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94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上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在南京陆军总部举行中国战区日本投降签字仪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0:01:2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8:32Z</dcterms:modified>
  <cp:revision>7</cp:revision>
  <dc:subject>主题班会课件(分28大类): http://shop62905894.taobao.com</dc:subject>
  <dc:title>主题班会课件(分28大类): http://shop62905894.taobao.com</dc:title>
</cp:coreProperties>
</file>